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ADFB-F27E-4B53-962C-E963CD6E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D1E8-4C16-4F2F-AC1F-A7F94C1F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9AE-71F0-4F9A-A1B2-E28F3CAF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C61-52B2-4E32-A39A-F3834C10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3A7-E8C5-4AB4-9A3E-8F9C21E4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447-9FD9-423D-8F16-2C663931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0EA-0B62-4670-9AD1-52AC423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BFF-234F-44EF-9EDC-A3E731D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6CA-7F8B-427C-8EDD-E142679B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92C-E30D-48A3-B6F1-B5033771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37D-341C-468E-981E-EDB5BCF9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0C6-4A3F-498A-A4D4-597383F8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CF1-94CB-4262-83EC-9FB20A3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E4C-C4F1-4F2D-8CC3-F6366DD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F33C-C052-4C5E-B988-3B6340F28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.7 Multiplying Polynom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nomial is a polynomial with two te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ultiply a binomial by a binomial, you will use a method called “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FOI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called “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FO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ecause you work the problem in this ord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40384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4572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" y="51814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57200" y="5791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 + 2)(x + 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4920" y="1905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ir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04920" y="28195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out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04920" y="37339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inn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04920" y="46483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la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80880" y="55627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876920" y="1905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952880" y="22860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876920" y="2819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952880" y="3276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4952880" y="4191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876920" y="46483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x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5105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+ 3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4952880" y="5562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+ 5x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+ 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563868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6477120" y="4191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7238880" y="5105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+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(x + 3)(x –1) = (x + 1)(x + -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04920" y="1905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ir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04920" y="28195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out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04920" y="37339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inn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304920" y="46483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la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80880" y="55627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876920" y="19051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4876920" y="28195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)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4876920" y="3733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4876920" y="46483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x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952880" y="22860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4952880" y="3276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952880" y="4191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952880" y="5105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4952880" y="55627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+ 2x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63868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6248520" y="4191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7010280" y="5105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B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2x + 1)(3x – 2) = (2x + 1)(3x + 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04920" y="19051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fir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04920" y="28195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out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4920" y="3733920"/>
            <a:ext cx="419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inner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4920" y="464832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two last terms in each bi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80880" y="5562720"/>
            <a:ext cx="403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4876920" y="2819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(3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5"/>
          <p:cNvSpPr/>
          <p:nvPr/>
        </p:nvSpPr>
        <p:spPr>
          <a:xfrm>
            <a:off x="4876920" y="3733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6"/>
          <p:cNvSpPr/>
          <p:nvPr/>
        </p:nvSpPr>
        <p:spPr>
          <a:xfrm>
            <a:off x="4876920" y="46483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x +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3x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-2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4952880" y="22860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4952880" y="32767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4952880" y="41911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4952880" y="51055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4952880" y="5562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6x</a:t>
            </a:r>
            <a:r>
              <a:rPr b="0" lang="en-US" sz="28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– 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5867280" y="3276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6629400" y="4191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Arial"/>
              </a:rPr>
              <a:t>+ 3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7391520" y="5105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4876920" y="190512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2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)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[3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ying a Binomial by a Tr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28600" y="3276720"/>
            <a:ext cx="42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y each term in the first polynomial with each in the second polynom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28600" y="4572000"/>
            <a:ext cx="4267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y by 2 to each term in the second polynom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28600" y="58672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4800600" y="3352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x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2x 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4800600" y="38862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2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4800600" y="4419720"/>
            <a:ext cx="403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2x 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4800600" y="49528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2x</a:t>
            </a:r>
            <a:r>
              <a:rPr b="0" lang="en-US" sz="26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 + 4x +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858000" y="541008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2x</a:t>
            </a:r>
            <a:r>
              <a:rPr b="0" lang="en-US" sz="26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 + 4x +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800600" y="5410080"/>
            <a:ext cx="2362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2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800600" y="58672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80008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 + </a:t>
            </a:r>
            <a:r>
              <a:rPr b="0" lang="en-US" sz="2600" spc="-1" strike="noStrike">
                <a:solidFill>
                  <a:srgbClr val="008000"/>
                </a:solidFill>
                <a:latin typeface="Arial"/>
              </a:rPr>
              <a:t>5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+ 2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28600" y="28195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 + 2)(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2x + 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228600" y="19051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ze how you would multiply a binomial by a trinom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28600" y="9907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inomial has two terms, and a trinomial has three te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13:40:50Z</dcterms:created>
  <dc:creator>Kenny Kong</dc:creator>
  <dc:description/>
  <dc:language>en-US</dc:language>
  <cp:lastModifiedBy>SCSCHOOLS</cp:lastModifiedBy>
  <dcterms:modified xsi:type="dcterms:W3CDTF">2011-02-23T21:22:37Z</dcterms:modified>
  <cp:revision>66</cp:revision>
  <dc:subject>Multiplying Polynomials</dc:subject>
  <dc:title>Multiplying Polynomials</dc:title>
</cp:coreProperties>
</file>